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6BF-4279-4DE0-9FC0-7241FEEA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C0F-74EE-4FC5-9DCE-748527E0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805-0C6C-42FD-8027-AA2F267F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485-A5A9-4F5D-B4C9-67F339F7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CCD-12BC-40CE-AE6D-3F2E82D5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B6C-46E0-4DC2-8D7C-8C3FC29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967-3768-4C3C-B67B-6482972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A28-44C4-4064-AECA-FB16A9C3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E9E-4E92-4447-84E4-135ECCEA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C90-C206-4037-91E5-AD9AAA1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C58-3B65-4C0F-8855-BDD3824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8AA-C31F-4FEE-BB38-70EFE6E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8F53-C538-480E-A8E8-F7C1C1566E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ims.co.uk/tudors/henry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724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640"/>
            <a:ext cx="9144000" cy="259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324000 h 2592720"/>
              <a:gd name="textAreaBottom" fmla="*/ 259308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b1155"/>
              </a:gs>
              <a:gs pos="50000">
                <a:srgbClr val="8226ba"/>
              </a:gs>
              <a:gs pos="100000">
                <a:srgbClr val="3b115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1125360"/>
            <a:ext cx="3743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Who was Henry VIII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3716280"/>
            <a:ext cx="4032360" cy="2665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e8e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4365720"/>
            <a:ext cx="194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why did he have 6 w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860640"/>
            <a:ext cx="2016000" cy="2232360"/>
          </a:xfrm>
          <a:custGeom>
            <a:avLst/>
            <a:gdLst>
              <a:gd name="textAreaLeft" fmla="*/ 830520 w 2016000"/>
              <a:gd name="textAreaRight" fmla="*/ 1185480 w 2016000"/>
              <a:gd name="textAreaTop" fmla="*/ 919800 h 2232360"/>
              <a:gd name="textAreaBottom" fmla="*/ 131256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8f336"/>
              </a:gs>
              <a:gs pos="100000">
                <a:srgbClr val="727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3860640"/>
            <a:ext cx="2016000" cy="2232360"/>
          </a:xfrm>
          <a:custGeom>
            <a:avLst/>
            <a:gdLst>
              <a:gd name="textAreaLeft" fmla="*/ 830520 w 2016000"/>
              <a:gd name="textAreaRight" fmla="*/ 1185480 w 2016000"/>
              <a:gd name="textAreaTop" fmla="*/ 919800 h 2232360"/>
              <a:gd name="textAreaBottom" fmla="*/ 131256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8f336"/>
              </a:gs>
              <a:gs pos="100000">
                <a:srgbClr val="727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3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Jane Sey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345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fter getting rid of Anne, Henry married Jane Seymour in 153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Jane finally gave Henry the son he so wanted – Edwar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nfortunately, Edward died when he was just 1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Jane died after giving birth to Edwar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373720"/>
            <a:ext cx="23763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281448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51280" y="59500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e Sey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5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93080" y="1773360"/>
            <a:ext cx="181908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566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4</a:t>
            </a:r>
            <a:br>
              <a:rPr sz="3600"/>
            </a:b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nne of Cl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fter Jane died, Henry sent a painter, Holbein, to Germany in 1540 to paint a picture of Anne of Cl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thought she looked very pretty, but when he saw her he hated 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thought she was very ugly, and called her the “Flanders M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had no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nry divorced A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661000"/>
            <a:ext cx="32403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00760" y="1600200"/>
            <a:ext cx="333216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1964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ne of Cl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7340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5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atherine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came Catherine Ho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married Henry in 15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no children, mainly because she didn’t like Henry and had lots of other boyfrie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wasn’t very happy about this, and she was beheaded in 15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79736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2951280" cy="446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92720" y="609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herine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08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6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atherine P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married his final wife in 15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is supposed to have been very nice and kind, and Henry seems to have been quite happy with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no children, but stayed ma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erine Parr outlived Henry – he died in 1547, while she lived until 15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4797360"/>
            <a:ext cx="3745080" cy="10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403848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35640" y="551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herine Pa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king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 wiv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ree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76720" y="2205000"/>
            <a:ext cx="4967280" cy="3672000"/>
          </a:xfrm>
          <a:prstGeom prst="irregularSeal1">
            <a:avLst/>
          </a:prstGeom>
          <a:gradFill rotWithShape="0">
            <a:gsLst>
              <a:gs pos="0">
                <a:srgbClr val="580c26"/>
              </a:gs>
              <a:gs pos="50000">
                <a:srgbClr val="c01c53"/>
              </a:gs>
              <a:gs pos="100000">
                <a:srgbClr val="580c2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031920" cy="4135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08720" y="3645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u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udors were a royal family who ruled England from 1485 until 16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rst Tudor king  was called Henry V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fought another king, Richard III, at the Battle of Bosworth in 1485.  Richard was killed, Henry became king, and a new period of history be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68720" y="1600200"/>
            <a:ext cx="3048120" cy="406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03640" y="5805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nry 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u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Tudor family tree.  It shows when people were born, when they died, who they married and how many children they h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989000"/>
          <a:ext cx="896472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896472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nry V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VIII was king of England from 1509 until 154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born in 1491, and was only 17 years and 10 months old when he becam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composed music, which we can listen to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brims.co.uk/tudors/henry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28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4000" y="61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nry 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escription of Henry, by an Italian called Giu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His majesty is twenty-nine years old, and extremely handsome.  Nature could not have done more for him.  He is much handsomer than any other sovereign in Christendom; a great deal handsomer then the King of France; very fair, and his whole frame admirably proportioned.  On hearing that Francis I (the King of France) wore a beard, he allowed his own to grow; and as it is reddish, he has now got a beard that looks like gold.  He is very accomplished; a good musician; composes well; is a most capital horseman; a fine jouster; speaks good French, Latin and Spanish; is very religious; hears three masses daily when he hunts, and sometimes five on other days.  He is very fond of hunting, and never takes his diversion without tiring 8 or 10 horses.  He is extremely fond of tennis, at which game it is the prettiest thing in the world to see him play, his fair skin glowing through a shirt of the finest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gain at this picture of Henry.  How would you describe him now? Is he still young and hands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95560" y="1600200"/>
            <a:ext cx="315288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2060640"/>
            <a:ext cx="1655640" cy="863640"/>
          </a:xfrm>
          <a:prstGeom prst="wedgeRoundRectCallout">
            <a:avLst>
              <a:gd name="adj1" fmla="val -79722"/>
              <a:gd name="adj2" fmla="val 568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ld do you think he i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413000"/>
            <a:ext cx="1728720" cy="863640"/>
          </a:xfrm>
          <a:prstGeom prst="wedgeRoundRectCallout">
            <a:avLst>
              <a:gd name="adj1" fmla="val 71212"/>
              <a:gd name="adj2" fmla="val 91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the expression on his 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213000"/>
            <a:ext cx="2232000" cy="1008000"/>
          </a:xfrm>
          <a:prstGeom prst="wedgeRoundRectCallout">
            <a:avLst>
              <a:gd name="adj1" fmla="val -60453"/>
              <a:gd name="adj2" fmla="val 73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you tell he is an important pers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941720"/>
            <a:ext cx="1873080" cy="935280"/>
          </a:xfrm>
          <a:prstGeom prst="wedgeRoundRectCallout">
            <a:avLst>
              <a:gd name="adj1" fmla="val -62287"/>
              <a:gd name="adj2" fmla="val 102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ort of clothes is he wea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2924280"/>
            <a:ext cx="2160720" cy="1081080"/>
          </a:xfrm>
          <a:prstGeom prst="wedgeRoundRectCallout">
            <a:avLst>
              <a:gd name="adj1" fmla="val 49120"/>
              <a:gd name="adj2" fmla="val 94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Henry trying to tell us about himself in this portr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4653000"/>
            <a:ext cx="1871640" cy="1440000"/>
          </a:xfrm>
          <a:prstGeom prst="wedgeRoundRectCallout">
            <a:avLst>
              <a:gd name="adj1" fmla="val 53222"/>
              <a:gd name="adj2" fmla="val 80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think that Henry really looked like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nry and his w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and, the crown is passed from the parent to the child when the parent dies.  Henry was desperate to have a son to pass the crown o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rder to have children, Henry had to find himself a wife.  But he married not once, not twice, but SIX time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of these wives died, some he divorced, some he had killed and one survived him.  Let’s have a look at these wives in more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1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atherine of Ara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316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married Catherine of Aragon in 15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erine was a Spanish prin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one daughter, Mary, who later became Queen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divorced Cathe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20000" y="2276640"/>
            <a:ext cx="1842840" cy="2663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08720" y="5084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30434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herine of Ar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5157720"/>
            <a:ext cx="23050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30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2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nne Bole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6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Henry fell for Anne Boley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and Anne were married in 1533 in secret – because Henry hadn’t got rid of his first wife y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a daughter, Elizabeth, who also later became a Queen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had Anne behe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445000"/>
            <a:ext cx="2519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308592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1164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e Bole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6000" y="2205000"/>
            <a:ext cx="1734840" cy="208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5164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2:48:54Z</dcterms:created>
  <dc:creator> </dc:creator>
  <dc:description/>
  <dc:language>en-US</dc:language>
  <cp:lastModifiedBy>shoyer</cp:lastModifiedBy>
  <dcterms:modified xsi:type="dcterms:W3CDTF">2008-09-25T13:22:13Z</dcterms:modified>
  <cp:revision>18</cp:revision>
  <dc:subject/>
  <dc:title>Who was Henry VIII?</dc:title>
</cp:coreProperties>
</file>